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261-00E0-4ACF-B83A-7561DC00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580-FA05-4C54-BC0D-E897FB20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772-5AF0-478C-9D7F-BF115AEC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70CE-B73F-4B8F-868D-32C63941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3CC-1A40-4043-A129-B803380A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707-E0DC-4BB4-A02A-423782DB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1EA-18E7-4BD3-B229-4DCFB2D3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F57-C27D-4559-9043-7860213F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DAE-D312-4CAF-83D3-BA44FC80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DC1-2681-47D7-A847-9EFCB4F9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9140-2A02-46BB-AFD7-EB7C2207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5ED-2449-4578-9E9E-90ABE16B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826F-BE6D-4BDE-842E-4BE7F3425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261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Brion"/>
              </a:rPr>
              <a:t>Good Ole Moccas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62485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om's Headache"/>
              </a:rPr>
              <a:t>Designed and Written by Emily T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250"/>
                            </p:stCondLst>
                            <p:childTnLst>
                              <p:par>
                                <p:cTn id="1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925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I can't wait to 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home and put on 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moccasi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It's freezin' out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and there ain'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no fish bitin'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My bud Bob left ear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cause he's comin'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with somethin', so n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utton"/>
              </a:rPr>
              <a:t>I'm out here by my lonesom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77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77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79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99840" y="0"/>
            <a:ext cx="5791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K Wild n Crazy"/>
              </a:rPr>
              <a:t>Hopefully my wife will have supper read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K Wild n Crazy"/>
              </a:rPr>
              <a:t>by the time I git hom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K Wild n Crazy"/>
              </a:rPr>
              <a:t>which reminds me, I gotta cook that deer mea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650"/>
                            </p:stCondLst>
                            <p:childTnLst>
                              <p:par>
                                <p:cTn id="1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b75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952880" y="152280"/>
            <a:ext cx="4191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hipper"/>
              </a:rPr>
              <a:t>I don't know what I'm gonna do tomor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hipper"/>
              </a:rPr>
              <a:t>Since retirement, I don't have nothin' to do all day, every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hipper"/>
              </a:rPr>
              <a:t>And my wife's always hollerin' at me about sittin' at home all the time, always naggin' me.</a:t>
            </a:r>
            <a:r>
              <a:rPr b="0" lang="en-US" sz="3600" spc="-1" strike="noStrike">
                <a:solidFill>
                  <a:srgbClr val="000000"/>
                </a:solidFill>
                <a:latin typeface="Chippe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39440" cy="5940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76720" y="5180400"/>
            <a:ext cx="57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Jeff"/>
              </a:rPr>
              <a:t>Man, I think my feet are solid 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Jeff"/>
              </a:rPr>
              <a:t>Can't wait to put on my fleece lined mocs.</a:t>
            </a:r>
            <a:r>
              <a:rPr b="0" lang="en-US" sz="1800" spc="-1" strike="noStrike">
                <a:solidFill>
                  <a:srgbClr val="000000"/>
                </a:solidFill>
                <a:latin typeface="CK Freezing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20579400">
            <a:off x="933480" y="121824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rdlak"/>
              </a:rPr>
              <a:t>Well, look's like my worms are g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4800600" cy="3222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100400">
            <a:off x="4710600" y="2361960"/>
            <a:ext cx="364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rdlak"/>
              </a:rPr>
              <a:t>Better luck next time I gu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22:20:59Z</dcterms:created>
  <dc:creator>Terese Toth</dc:creator>
  <dc:description/>
  <dc:language>en-US</dc:language>
  <cp:lastModifiedBy>Terese Toth</cp:lastModifiedBy>
  <dcterms:modified xsi:type="dcterms:W3CDTF">2008-02-27T03:49:10Z</dcterms:modified>
  <cp:revision>3</cp:revision>
  <dc:subject/>
  <dc:title>Good Ole Moccasins</dc:title>
</cp:coreProperties>
</file>